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0FE-58E9-48DA-B05F-1B3D9EAF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BD4-3DE7-4163-86BF-D0EFF5BA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8D6-7D45-4767-A32D-9F01C8D7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01E-82DE-4ED9-8EDB-4B111F2C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DB0-97D7-428E-B0C2-00A786D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475-4C1E-4F6A-A8DD-CA9C9AA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8F9-2216-441E-9B57-D9F54E8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050-0A2B-4D54-A9CC-C3899E0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4C3-00E1-4C63-AD14-B7E49B40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519-8833-468B-B3BF-72C9F17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D55-8858-4C79-A346-1299EAE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830-9252-4A2D-B1A3-A457EFE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BBAFA-686D-45F6-B839-138ECD600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6ACF9-F3E5-4660-987F-31983B452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panese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Dante Almon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766960" cy="173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Yushin Maru"/>
          <p:cNvPicPr/>
          <p:nvPr/>
        </p:nvPicPr>
        <p:blipFill>
          <a:blip r:embed="rId2"/>
          <a:stretch/>
        </p:blipFill>
        <p:spPr>
          <a:xfrm>
            <a:off x="5334120" y="609480"/>
            <a:ext cx="2438280" cy="18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hunt wha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ese whaling in the perspective of the Japanese is a good thing. They use the skin to make clothing and accessories.  It is also a food sou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whales_world_japan_whaling19"/>
          <p:cNvPicPr/>
          <p:nvPr/>
        </p:nvPicPr>
        <p:blipFill>
          <a:blip r:embed="rId1"/>
          <a:stretch/>
        </p:blipFill>
        <p:spPr>
          <a:xfrm>
            <a:off x="457200" y="4495680"/>
            <a:ext cx="281952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else does it take pla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 in many countries is illegal but in Norway and Iceland they still do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352680" cy="263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6576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es are used for food, cosmetics, engineering, candles, and soap produc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ANd9GcRFgSouN8VwalHTWNACj0fayM3ADXAoecyeWgQmC6EnlhFi6RYc&amp;t=1"/>
          <p:cNvPicPr/>
          <p:nvPr/>
        </p:nvPicPr>
        <p:blipFill>
          <a:blip r:embed="rId1"/>
          <a:stretch/>
        </p:blipFill>
        <p:spPr>
          <a:xfrm>
            <a:off x="457200" y="365904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WhaleMeat"/>
          <p:cNvPicPr/>
          <p:nvPr/>
        </p:nvPicPr>
        <p:blipFill>
          <a:blip r:embed="rId2"/>
          <a:stretch/>
        </p:blipFill>
        <p:spPr>
          <a:xfrm>
            <a:off x="3276720" y="29844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soap"/>
          <p:cNvPicPr/>
          <p:nvPr/>
        </p:nvPicPr>
        <p:blipFill>
          <a:blip r:embed="rId3"/>
          <a:stretch/>
        </p:blipFill>
        <p:spPr>
          <a:xfrm>
            <a:off x="6248520" y="3681360"/>
            <a:ext cx="2438280" cy="195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ANd9GcSdXihaeTvfahy8g0lrKK6Lfm0UvGgNGuO3kfBkyAKNIR29QO4_rg"/>
          <p:cNvPicPr/>
          <p:nvPr/>
        </p:nvPicPr>
        <p:blipFill>
          <a:blip r:embed="rId4"/>
          <a:stretch/>
        </p:blipFill>
        <p:spPr>
          <a:xfrm>
            <a:off x="2971800" y="4861080"/>
            <a:ext cx="2133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did it star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 stems from the prehistoric times to modern day life. It has always been a part of Japanese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0"/>
          <p:cNvPicPr/>
          <p:nvPr/>
        </p:nvPicPr>
        <p:blipFill>
          <a:blip r:embed="rId1"/>
          <a:stretch/>
        </p:blipFill>
        <p:spPr>
          <a:xfrm>
            <a:off x="457200" y="40114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whale_hunting_05_preview"/>
          <p:cNvPicPr/>
          <p:nvPr/>
        </p:nvPicPr>
        <p:blipFill>
          <a:blip r:embed="rId2"/>
          <a:stretch/>
        </p:blipFill>
        <p:spPr>
          <a:xfrm>
            <a:off x="5410080" y="4113360"/>
            <a:ext cx="3048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oallover.org/greenland-could-increase-whale-hunting-wdcs/54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History_of_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how.com/about_5009827_what-whales-used-today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eashepherd.org/whales/japa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4:05:55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25T14:29:51Z</dcterms:modified>
  <cp:revision>6</cp:revision>
  <dc:subject/>
  <dc:title>Japanese Whaling</dc:title>
</cp:coreProperties>
</file>